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BCF4-0A72-4A9F-B67C-561A5546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0043-EC87-40A7-98B6-BCCF18C4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DFB6-E941-4D22-A9DA-C89353A66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827E-9564-4E4A-BE67-BC8743930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0696-C489-47A5-A676-601DC57E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B788-2513-4032-9D09-BFA2D851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6E66-83FE-4C84-BC0C-D29BCB35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F7B3-3FEA-4F15-914D-47E072A8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E956-3367-4B36-AFB1-1CBC3EEA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5E88-9774-41FF-9C02-E3C3F7FB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7C5A-BB79-439D-97A5-811175C1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D9FF-4155-4A93-A2CD-A05C15B9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99CF-333E-4F66-9CE7-FCE26B7FF7C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357120"/>
            <a:ext cx="8640720" cy="566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Times New Roman"/>
              </a:rPr>
              <a:t>Заполнение формы отраслевого статистического наблюдения № 14дс «Сведения о деятельности дневных стационаров медицинских организаций» за 2019 год.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95280" y="1628640"/>
          <a:ext cx="8229600" cy="4565880"/>
        </p:xfrm>
        <a:graphic>
          <a:graphicData uri="http://schemas.openxmlformats.org/drawingml/2006/table">
            <a:tbl>
              <a:tblPr/>
              <a:tblGrid>
                <a:gridCol w="1224000"/>
                <a:gridCol w="431640"/>
                <a:gridCol w="730440"/>
                <a:gridCol w="730080"/>
                <a:gridCol w="731880"/>
                <a:gridCol w="730440"/>
                <a:gridCol w="730080"/>
                <a:gridCol w="730440"/>
                <a:gridCol w="730080"/>
                <a:gridCol w="730440"/>
                <a:gridCol w="730080"/>
              </a:tblGrid>
              <a:tr h="5504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лжнос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-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должнос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 лиц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ат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 медицинские работ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адш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84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у 1000 заполняют все медицинские организации, имеющие дневные стационары, в соответствии со штатным расписанием, утвержденным руководителем медицинской организации в установленном порядке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штатных и занятых должностях показываются как целыми, так и дробными числами (0,25, 0,5 и 0,75 должности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физических лицах заполняю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. Должности и физические лица дневных стационаров медицинской организаци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рафах 5, 8 и 11 «Число физических лиц» показывают только основных работников, имеющих трудовую книжку в данной организа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х совместителей в данные графы не включают, внутренних совместителей показывают как физические лица только один раз на основной занимаемой должност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3640" y="1599840"/>
            <a:ext cx="85690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роке 4 «Всего» не следует указывать прочий персона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4 (всего) должна быть равна сумме строк 1, 2, 3 по графам 3, 4, 5, 6, 7, 8, 9, 10, 1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Содержимое 2"/>
          <p:cNvSpPr/>
          <p:nvPr/>
        </p:nvSpPr>
        <p:spPr>
          <a:xfrm>
            <a:off x="179280" y="1387440"/>
            <a:ext cx="8751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стациона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3=141.1000.1.03 + 141.1000.2.03 +141.1000.3.03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4=141.1000.1.04 + 141.1000.2.04 +141.1000.3.04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5=141.1000.1.05 + 141.1000.2.05 +141.1000.3.05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Содержимое 2"/>
          <p:cNvSpPr/>
          <p:nvPr/>
        </p:nvSpPr>
        <p:spPr>
          <a:xfrm>
            <a:off x="179280" y="1387440"/>
            <a:ext cx="8751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вной стационар медицинской организации, оказывающей помощь в амбулаторных услов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6=141.1000.1.06 + 141.1000.2.06 +141.1000.3.06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7=141.1000.1.07 + 141.1000.2.07 +141.1000.3.07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8=141.1000.1.08 + 141.1000.2.08 +141.1000.3.08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1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142560"/>
            <a:ext cx="86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1000 «Должности и физические лица дневных стационаров медицинской организ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3640" y="1412640"/>
            <a:ext cx="85359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Содержимое 2"/>
          <p:cNvSpPr/>
          <p:nvPr/>
        </p:nvSpPr>
        <p:spPr>
          <a:xfrm>
            <a:off x="179280" y="1387440"/>
            <a:ext cx="875196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ционар на д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r>
              <a:rPr b="1" i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штатн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09=141.1000.1.09 + 141.1000.2.09 +141.1000.3.09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занятых должностей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10=141.1000.1.10 + 141.1000.2.10 +141.1000.3.10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сего физических лиц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00.4.11=141.1000.1.11 + 141.1000.2.11 +141.1000.3.11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взрослых 1.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 1.01 = 30.1001.16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1.=47.0650.46.04+47.0650.51.04+47.0660.46.04+47.0660.51.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1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дневных стационаров для детей 2.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30.1001.17.04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1010.1.02 = 47.0650.46.05+47.0650.51.05 + 47.0660.46.05+47.0660.51.0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79280" y="1628640"/>
          <a:ext cx="8496360" cy="485316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410320" cy="478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7531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Российской Федерации № 438 от 9 декабря 1999 г. «Об организации деятельности дневных стационаров в лечебно-профилактическом учреждении»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79280" y="1628640"/>
          <a:ext cx="8496360" cy="485316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10, 22 – выписано детей до 3 лет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ы 14, 26 – число проведенных пациенто-д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ьми до 3 ле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9640" y="1484280"/>
            <a:ext cx="8229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в дневном стационаре указывают в соответствии с приказом об организации данного структурного подразделения медицинской организа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на конец года заполняется без учета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заполняется с учетом сменности работы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указывается целыми числам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49 «койки скорой медицинской помощи краткосрочного пребывания»  графам с 3 по 2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ить внимание, чтобы на койках для детей не указывались сведения о пациентах старше трудоспособного возрас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детей не заполняются сведения о числе коек для взрослы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невных стационарах для взрослых не показываются сведения о числе коек для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ям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79280" y="1268280"/>
          <a:ext cx="8496360" cy="5048280"/>
        </p:xfrm>
        <a:graphic>
          <a:graphicData uri="http://schemas.openxmlformats.org/drawingml/2006/table">
            <a:tbl>
              <a:tblPr/>
              <a:tblGrid>
                <a:gridCol w="1008000"/>
                <a:gridCol w="360360"/>
                <a:gridCol w="503280"/>
                <a:gridCol w="505080"/>
                <a:gridCol w="503280"/>
                <a:gridCol w="504720"/>
                <a:gridCol w="50328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365400">
                <a:tc row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взросл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лергологи-ческие для дет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патологии берем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ичес-кие соматическ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апевтическ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Box 5"/>
          <p:cNvSpPr/>
          <p:nvPr/>
        </p:nvSpPr>
        <p:spPr>
          <a:xfrm>
            <a:off x="2556000" y="3860640"/>
            <a:ext cx="100800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1547640" y="4292640"/>
            <a:ext cx="101628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4067280" y="42926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6659640" y="4221000"/>
            <a:ext cx="7128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6659640" y="486900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0"/>
          <p:cNvSpPr/>
          <p:nvPr/>
        </p:nvSpPr>
        <p:spPr>
          <a:xfrm>
            <a:off x="4067280" y="4869000"/>
            <a:ext cx="7128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1"/>
          <p:cNvSpPr/>
          <p:nvPr/>
        </p:nvSpPr>
        <p:spPr>
          <a:xfrm>
            <a:off x="4067280" y="53006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6643800" y="5286240"/>
            <a:ext cx="720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3"/>
          <p:cNvSpPr/>
          <p:nvPr/>
        </p:nvSpPr>
        <p:spPr>
          <a:xfrm>
            <a:off x="1547640" y="5373720"/>
            <a:ext cx="101628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4"/>
          <p:cNvSpPr/>
          <p:nvPr/>
        </p:nvSpPr>
        <p:spPr>
          <a:xfrm>
            <a:off x="2556000" y="5877000"/>
            <a:ext cx="1015920" cy="246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е заполня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34136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взрослых на конец года в дневных стационара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3. = 47.650.46.06. + 47.650.51.0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для детей на конец года в дневных стационара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5. = 47.650.46.07. + 47.650.51.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7. = 47.650.46.08. + 47.650.51.08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8. = 47.650.46.09. + 47.650.51.0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85480" y="1071360"/>
            <a:ext cx="86058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09. = 47.650.46.10. + 47.650.51.10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0. = 47.650.46.11. + 47.650.51.11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1. = 47.650.46.12. + 47.650.51.12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2. = 47.650.46.13. + 47.650.51.13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3. = 47.650.46.14. + 47.650.51.14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4. = 47.650.46.15. + 47.650.51.15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3640" y="1484280"/>
            <a:ext cx="83739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взрослых на конец года в дневных стационарах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5. = 47.660.46.06. + 47.660.51.06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коек (мест) для детей на конец года в дневных стационара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7. = 47.660.46.07. + 47.660.51.07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19. = 47.660.46.08. + 47.660.51.08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лиц старше трудоспособного возраста из дневных стационаров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0. = 47.660.46.09. + 47.660.51.09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14200"/>
            <a:ext cx="8713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000 «Использование коек дневного стационара медицинской организации по профилю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4000" y="1196640"/>
            <a:ext cx="8300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форменные контроли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условиях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1. = 47.660.46.10. + 47.660.51.10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до 3 лет из дневных стационар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2. = 47.660.46.11. + 47.660.51.11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взрослыми в дневных стациона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3. = 47.660.46.12. + 47.660.51.1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лицами старше трудоспособного возраста в дневных стациона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4. = 47.660.46.13. + 47.660.51.1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(0-17 лет) в дневных стациона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5. = 47.660.46.14. + 47.660.51.1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оведенных пациенто-дней детьми до 3 лет в дневных стационар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000.1.26. = 47.660.46.15. + 47.660.51.1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79280" y="1628640"/>
          <a:ext cx="8496360" cy="4926240"/>
        </p:xfrm>
        <a:graphic>
          <a:graphicData uri="http://schemas.openxmlformats.org/drawingml/2006/table">
            <a:tbl>
              <a:tblPr/>
              <a:tblGrid>
                <a:gridCol w="647640"/>
                <a:gridCol w="432000"/>
                <a:gridCol w="541440"/>
                <a:gridCol w="539640"/>
                <a:gridCol w="539640"/>
                <a:gridCol w="540000"/>
                <a:gridCol w="647640"/>
                <a:gridCol w="720720"/>
                <a:gridCol w="647640"/>
                <a:gridCol w="647640"/>
                <a:gridCol w="576360"/>
                <a:gridCol w="720720"/>
                <a:gridCol w="647640"/>
                <a:gridCol w="647640"/>
              </a:tblGrid>
              <a:tr h="557280"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 кое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кое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дн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взрослы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дет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рос-лы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-17 лет включительн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коне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-годо-в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4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 старше трудоспо-собного 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ей до 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ами старше трудоспо-соб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ь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ле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невные стациона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3640" y="1500120"/>
            <a:ext cx="831996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800" spc="-1" strike="noStrike">
                <a:solidFill>
                  <a:srgbClr val="000000"/>
                </a:solidFill>
                <a:latin typeface="Times New Roman"/>
              </a:rPr>
              <a:t>структурные подразделения лечебно-профилактических учреждений, в том числе амбулаторно-поликлинических, больничных учреждений, клиник медицинских научно-исследовательских институтов и образовательных учреждений.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36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2100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280" y="1268280"/>
            <a:ext cx="83012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реднегодовых коек следует заполнять целыми числами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авлены: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10 - число выписанных детей до 3 лет;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а 14 - число проведенных пациенто-дней детьми до 3 лет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ло в дневном стационаре при подразделениях медицинских организаций, оказывающих медицинскую помощ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2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3 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4 __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у  5 __________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детей 6 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000" y="765000"/>
            <a:ext cx="85359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стациона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1.=141.3000.1.06.+141.3500.1.06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стациона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2.=141.3500.1.06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дневном стационаре медицинских организаций, оказывающих помощь в амбулато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3.=141.3000.1.09.+141.3500.1.09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дневном стационаре медицинских организаций, оказывающих помощь в амбулаторных условиях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4.=141.3500.1.09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28400" y="1285560"/>
            <a:ext cx="853596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(взрослых и детей) в стационаре на до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5. = 141.3000.1.12.+141.3500.1.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умерших детей в стационаре на до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2500.1.06. = 141.3500.1.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2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сельских жителей из дневных стационаров медицинских организаций, оказывающих медицинскую помощь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ционарных условиях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мбулаторных условиях 2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му  3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0004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пациентов в дневных стационарах, сроки и исходы ле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. Дневные стационары для взрослы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6018120"/>
            <a:ext cx="892980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20 графам 10, 11, 1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28760" y="928800"/>
          <a:ext cx="8286480" cy="5143320"/>
        </p:xfrm>
        <a:graphic>
          <a:graphicData uri="http://schemas.openxmlformats.org/drawingml/2006/table">
            <a:tbl>
              <a:tblPr/>
              <a:tblGrid>
                <a:gridCol w="2666880"/>
                <a:gridCol w="276120"/>
                <a:gridCol w="460440"/>
                <a:gridCol w="552600"/>
                <a:gridCol w="552240"/>
                <a:gridCol w="552600"/>
                <a:gridCol w="554040"/>
                <a:gridCol w="552240"/>
                <a:gridCol w="552600"/>
                <a:gridCol w="552600"/>
                <a:gridCol w="552240"/>
                <a:gridCol w="461880"/>
              </a:tblGrid>
              <a:tr h="11268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8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19 по графам с 4 по 12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. Дневные стационары для дете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28400" y="6214680"/>
            <a:ext cx="8715240" cy="4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полняются сведения по строке 21 графам 10, 11, 1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00040" y="714240"/>
          <a:ext cx="8001000" cy="5392800"/>
        </p:xfrm>
        <a:graphic>
          <a:graphicData uri="http://schemas.openxmlformats.org/drawingml/2006/table">
            <a:tbl>
              <a:tblPr/>
              <a:tblGrid>
                <a:gridCol w="2298600"/>
                <a:gridCol w="281160"/>
                <a:gridCol w="466560"/>
                <a:gridCol w="561960"/>
                <a:gridCol w="560520"/>
                <a:gridCol w="560520"/>
                <a:gridCol w="561960"/>
                <a:gridCol w="560160"/>
                <a:gridCol w="560520"/>
                <a:gridCol w="560520"/>
                <a:gridCol w="561960"/>
                <a:gridCol w="466560"/>
              </a:tblGrid>
              <a:tr h="106560"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классов МКБ-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КБ-10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невные стационары медицинских организаций, оказывающих медицинскую помощь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тациона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амбулаторных условия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до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исано пациентов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о пациенто- дн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рл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400"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t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, в том числ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Т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которые инфекционные и паразитарные болез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00-В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образов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0-D4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рови, кроветворных органов и отдельные нарушения, вовлекающие иммунный механиз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50-D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эндокринной системы, расстройства питания и нарушения обмена вещест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00-Е9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43920" rIns="43920" tIns="0" bIns="0" anchor="ctr">
                      <a:noAutofit/>
                    </a:bodyPr>
                    <a:p>
                      <a:pPr algn="just"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ические расстройства и расстройства повед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00-F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нервной систе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00-G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глаза и его придаточного аппарат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00-H5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уха и сосцевидного отрост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60-H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системы кровообращ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00-I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дыха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0-J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96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органов пищевар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00-K9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жи и подкожной клетчатк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00-L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899"/>
                        </a:lnSpc>
                        <a:tabLst>
                          <a:tab algn="l" pos="0"/>
                          <a:tab algn="l" pos="449280"/>
                          <a:tab algn="ctr" pos="2637000"/>
                          <a:tab algn="r" pos="527364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костно-мышечной системы и соединительной ткан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ts val="8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00-M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зни мочеполовой систем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00-N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еменность, роды и послеродовой пери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00-O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ельные состояния, возникающие в перинатальном период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00-P9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ожденные аномалии, пороки развития, деформации и хромосомные наруш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00-Q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птомы, признаки и отклонения от нормы, выявленные при клинических и лабораторных исследованиях, не классифицированные в других  рубрика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00-R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, отравления и некоторые другие последствия воздействия внешних причи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00-T9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43920" rIns="43920" tIns="0" bIns="0" anchor="ctr">
                      <a:noAutofit/>
                    </a:bodyPr>
                    <a:p>
                      <a:pPr>
                        <a:lnSpc>
                          <a:spcPts val="7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ме того: факторы, влияющие на состояние здоровья и обращения в учреждения здравоохранен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-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3920" rIns="439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920" marR="43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357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а 1 (всего) должна быть равна сумме строк со 2 по 20 по графам с 4 по 12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организации дневных стационар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71320" y="185724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Times New Roman"/>
              </a:rPr>
              <a:t>проведение профилактических, диагностических, лечебных и реабилитационных мероприятий пациентам, не требующим круглосуточного медицинского наблюдения, с применением современных технологий в соответствии со стандартами и протоколами ведения пациентов.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143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стационарных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4. + 141.3000.20.04. = 141.2000.1.07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4. + 141.3500.21.04. = 141.2000.1.09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в амбулаторных  условиях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1916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07. + 141.3000.20.07. = 141.2000.1.19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дневных стационар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07. + 141.3500.21.07. = 141.2000.1.21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дневных стационаров медицинских организаций, оказывающих помощь на дому (стационары на дому)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640" y="1714320"/>
            <a:ext cx="8229600" cy="45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форменные контроли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взрослых из стационаров на дому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000.1.10. + 141.3000.20.10. = 141.2100.1.07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выписанных детей (0-17 лет) из стационаров на дому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1.3500.1.10. + 141.3500.21.10. = 141.2100.1.09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бщего числа выписанных (гр. 4 и 7 таблиц 3000 и 3500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райвоенкоматом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абличная строка 4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а госпитализированные для обследования и оказавшиеся здоровым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е 1 _________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2 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3 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них: призывники 4 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орме федерального статистического наблюдения № 47 в таблице 0660 следует заполнять сведения о работе стационаров на дому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56760" y="785520"/>
            <a:ext cx="83725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85680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яфер София Исааков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42640" y="2000160"/>
            <a:ext cx="7715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тор медицинских наук,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научный сотрудник отделения организации планирования и управления научными исследованиями ФГБУ «Центральный научно-исследовательский институт организации и информатизации здравоохранения Министерства здравоохранения Российской Федерации»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8(495) 618-29-13 (добавочный 313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sonia@mednet.r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0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602480" cy="55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№ 413 от 30 декабря 2002 г. «Об утверждении учетной и отчетной медицинской документации»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413 от 30 декабря 2002 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341000"/>
            <a:ext cx="8435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/у-02 «Листок ежедневного учета движения больных и коечного фонда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16/у-02 «Сводная ведомость движения больных и коечного фонда по стационару, отделению или профилю коек стационара круглосуточного пребывания, дневного стационара при больничном учреждении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Учетная форма № 007дс/у-02 «Листок ежедневного учета движения больных и коечного фонда дневного стационара при амбулаторно-поликлиническом учреждении, стационара на дому»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здравоохранения Российской Федерации № 413 от 30 декабря 2002 г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3640" y="1600200"/>
            <a:ext cx="85690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четная форма № 066/у-02 «Статистическая карта выбывшего из стационара круглосуточного пребывания, дневного стационара при больничном учреждении, дневного стационара при амбулаторно-поликлиническом учреждении, стационара на дому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четная форма № 14дс «Сведения о деятельности дневных стационаров лечебно-профилактического учреждения»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8535960" cy="559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Форма отраслевого статистического наблюдения № 14дс 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«Сведения о деятельности дневных стационаров медицинских организаций» </a:t>
            </a: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утверждена приказом Министерства здравоохранения Российской Федерации № 413 от 30.12.2002 г.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9680" y="1142640"/>
            <a:ext cx="810108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1f497d"/>
                </a:solidFill>
                <a:latin typeface="Times New Roman"/>
              </a:rPr>
              <a:t>   </a:t>
            </a:r>
            <a:r>
              <a:rPr b="1" lang="ru-RU" sz="3500" spc="-1" strike="noStrike">
                <a:solidFill>
                  <a:srgbClr val="000000"/>
                </a:solidFill>
                <a:latin typeface="Times New Roman"/>
              </a:rPr>
              <a:t>Приказ Министерства здравоохранения  Российской Федерации № 548 от 13 ноября 2003 г. «Об утверждении инструкции по заполнению отчетной формы по дневным стационарам»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9:51:31Z</dcterms:created>
  <dc:creator>Vaio</dc:creator>
  <dc:description/>
  <dc:language>en-US</dc:language>
  <cp:lastModifiedBy>Vaio</cp:lastModifiedBy>
  <dcterms:modified xsi:type="dcterms:W3CDTF">2019-12-10T04:38:11Z</dcterms:modified>
  <cp:revision>300</cp:revision>
  <dc:subject/>
  <dc:title>Форма отраслевого статистического наблюдения  № 14 дс «Сведения о деятельности дневных стационаров медицинских организаций»</dc:title>
</cp:coreProperties>
</file>